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55DF-3CFE-45F2-9167-AE87A9CE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respiratory-system/deck/48888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DB89-5CDD-4909-936A-6E13F18395F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classes.midlandstech.edu/carterp/Courses/bio225/chap05/ss5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8EAE-FE59-4F6E-A098-1CBD2D68612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academic.brooklyn.cuny.edu/biology/bio4fv/page/3d_prot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E8E-132F-47F4-BE8F-48731546C4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4B85-9A53-4EA2-9C7A-20AF9C5847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EB7-B29D-49B9-AEA3-47CE0D54B65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future-of-technology.com/index.php?p=2_7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48EC-F2A6-4502-AFF5-FF0F1622322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act ratio - for every NADH oxidized, 10H+ ions cross, and since 3-4 H+ ions need to flow back through ATP synthase for every ATP molecule produced, it’s ABOUT  3 ATP for each N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napsurveys.com/blog/survey-ranking-questions-rating-question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hitelightsonwednesday.com/2013/10/most-powerful-th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skgeorgie.com/creatine-and-asthma-link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edbio.info/horn/intmet/integration_of_metabolism%20v4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6FC-DE12-45E1-8BE2-BE87A83A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F37-36ED-4B39-AFD2-5C81CDE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4C9-1E66-4BE2-9A58-F79D70BA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0C7-C11A-4A6F-A859-3BAABC21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784-87B6-48A3-BBA7-F2792619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53B-552F-4D29-8411-16119DA7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4A4-2F02-45D2-87EC-A04EAD26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06E-8537-4ECF-B872-0C278365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DBC-A496-483F-BE80-0EE9C569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FEA-C780-4B3B-B19B-DD289D1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6BC-D3DA-467A-8E21-66F43ED5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5D0-A284-4F5D-99B6-7A85EC9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B2D4-5543-4863-A9DF-20CB0441A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cy &amp; Regul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•Alternatives to 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Cellular Respiration Regul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00280" y="304920"/>
            <a:ext cx="4095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g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from o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ed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 glucose is converted to and stored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lyc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 the muscle &amp; liver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r carbohydrates, proteins and lipids can also be metabolized for energy by entering the cellular respiration pathway at various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3800" y="304920"/>
            <a:ext cx="7014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ch &amp; disaccharides are digested into individual glucose monomers using amylase &amp; disaccharid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glycolysis at early stages (as glucose or glucose-6-phosph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digested into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groups are then removed throu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99000" y="1905120"/>
            <a:ext cx="21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hemical reactions convert the remaining part of the amino acids into intermediates of glycolysis or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tein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16600"/>
        </p:xfrm>
        <a:graphic>
          <a:graphicData uri="http://schemas.openxmlformats.org/drawingml/2006/table">
            <a:tbl>
              <a:tblPr/>
              <a:tblGrid>
                <a:gridCol w="4749840"/>
                <a:gridCol w="3022560"/>
              </a:tblGrid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ine, cysteine, glycine, serine, threo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u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ucine, lys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tyl-C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m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agine, aspar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o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, glutamate, glutamine, histidine, pro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etoglut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lycerides are first digested in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yce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7576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oretical ideal conditions, 1 glucose molecule yields a maximum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TP molecule --&gt; 31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 ATP x 31 kJ/mol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178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glucose molecule --&gt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870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iciency of aerobic cellular respiration is abou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4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pid Ca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erol is either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n G3P), and enter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erobic conditions, fatty acids are then transported to the matrix of the mitochondria and under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β-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-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tty acid chain is cleaved into 2-carbon acetyl groups, which are converted in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etyl-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enter 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ATP are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tivate the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leavage produ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NAD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FADH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Yield: less than 38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DH molecule results in a maximum of 3 ATP through oxidative phosphorylation, but this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exac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from cytosolic NADH are transferred to NA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FAD in the matrix through one of tw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shuttle”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Yield: less than 38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rom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 may b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other mitochondrial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rom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 may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e to uncoupl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ATP do we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c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mount of energy used per un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al metabolic rate (B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gender, growth &amp; development, age, muscle mass,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ak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T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e Phosph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oduced from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is stored in skeletal musc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hosphorylated by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is reversed when ATP demand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2529000"/>
            <a:ext cx="41911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21:11:38Z</dcterms:created>
  <dc:creator>rubina khan</dc:creator>
  <dc:description/>
  <dc:language>en-US</dc:language>
  <cp:lastModifiedBy>rubina khan</cp:lastModifiedBy>
  <dcterms:modified xsi:type="dcterms:W3CDTF">2013-10-21T17:34:43Z</dcterms:modified>
  <cp:revision>158</cp:revision>
  <dc:subject/>
  <dc:title>Anaerobic Pathways</dc:title>
</cp:coreProperties>
</file>